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76A-5705-4B85-AB9F-35C17EAA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E73-7534-4FB4-8806-772F5BE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E9F-4B2E-4E39-9FE0-21EA2443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4FE-2E2C-4110-847F-3D52651F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CE9-EA4F-46CD-AB62-5F2F3E39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7335-1A8A-4D99-A9E8-837FA928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CF3E-FB13-4680-985D-D3E169DB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A8AE-A3AD-462C-8B8A-DDF0014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C024-AE63-453E-8AE4-5FC34C8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CB3B-F3D0-4384-9A0F-ED4F68B1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434F-487C-4673-A748-36E4F93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A5D-88FE-4EB8-A5F6-76F2197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3673-D46E-436E-BD96-78480C4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1AFC-54A5-4A33-BBC2-987F56C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182B-7A19-478B-8191-6733B11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0937-AB01-4BA8-A593-A0B682D0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6E53-BDB2-4E12-A682-5B86461A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237-6568-43AE-A233-6645CE5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462-4D1C-487D-A8E8-288DA66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1B0-D55A-4494-991A-3312D5F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6D1-8D8A-4713-966D-FA6E39E7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3D0-2A52-4BE0-84F4-831D5D02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3D0-C5E3-4EDA-BAC8-0AD0362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1A0-A926-4972-B196-BAC2690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2656-48FA-437F-88AE-10A0021E3C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9A8-C66F-4621-A3F3-ED81946D1D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INUNEA SARBATORILOR DE PAS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ati cross-curriculare desfasurate in CDI Tar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Semnificatia Sfintelor Sarbatori de Pa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rea prin intermediul internetului pe tema propu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actarea unor texte in conturile propr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area si inserarea imaginilor semnific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71680" y="2419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Semnificatia Sfintelor Sarbatori de Pa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up tinta:4 elevi clasa a II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ul astept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area elevilor pentru intelegerea simbolurilor pascale, in viata crestina si respactarea valorilor de bine, adevar, iubi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7480" y="257796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Mancaruri traditionale romanesti de Past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inteleaga semnificatia simbolurilor pascale (oua incondeiate,iepurasul, mielu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caute retete de Pasti din diverse surs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prezinte retete de bucate care se prepara la masa de Paste, la roman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realizeze o brosura cu retete traditionale specifice Pate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up tinta: 4 elevi din clasa a II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Mancaruri traditionale romanesti de Pasti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Prezent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nificatiei oualor incondeia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nificatiei iepurasulu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nificatiei mielu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0798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Mancaruri traditionale romanesti de Pasti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22520" cy="380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Identificarea unor rete de bucate cu specific traditional romanes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Realizarea a doua brosuri care vor cuprinde  retele propuse de elev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UL ASTEP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ii vor cunoaste semnificatia zilelor de Paste, vor cunoaste retetele de bucate traditionale romanesti care se prepara  cu prilejul Sfintelor Pasti, participand in ajutarea mamicil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Incondeiat de ou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foloseasca corect materialele de lucr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-si dezvolte abilitati pentru incondeiatul  oualor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 obtina tratarea picturala a obiectul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up tinta: 4 elevi clasa  a VII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Incondeiat de ou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ondeiat de o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Fara albus si galben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a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levii vor constientiza pastrarea traditiilor de incondeiat oua in Vinerea Ma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.Borza Corne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. Crisan Lore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. religie Danciu Andr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. desen Deta Teod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. Grada Viol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dre did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23920" y="2362320"/>
            <a:ext cx="946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isus a zis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Eu sunt Invierea si viat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ine crede in Mine, chiar daca ar fi murit 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rai.”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Ioan 11:25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vitati centrate pe grupe de intere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Semnificatia zilelor din Saptamana Mare. (Spatiul lecturii de destindere-”Colt lectura”)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Importanta zilelor: Joi, Vineri, Sambata din Saptamana Mare( Spatiul audiovizualulu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Semnificatia Sfintelor Sarbatori de Pasti( Spatiul informat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Mancaruri traditionale romanesti de Pasti (Spatiu de lucru pe gru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Incondeiat de oua (Spatiu de lucru pe gru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Semnificatia zilelor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 caute informatii despre importanta zilelor din Saptamana Patimil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 selecteze continuturile si imaginile necesar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 argumenteze necesitatea cunoasterii zilelor din Saptamana Patimil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Semnificatia zilelor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area materialel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tetizarea materialelor supuse studiulu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tinerea prezentarii Power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95160" y="1600200"/>
            <a:ext cx="3562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Semnificatia zilelor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act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perea zilelor Sapatamanii Mari ca trepte  de pregatire pentru primirea vietii izvorate din Invierea lui Hris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up tinta: 4 elevi din clasa aVIII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Importanta zilelor: Joi, Vineri, Sambata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1765440" cy="2171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vizioneze secvente din filmul: “Iisus din Nazaret”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discute in grup despre importanta zilelor: Joi, Vineri si Sambata, din Saptamana Ma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ordoneze cronologic imagini reprezentand datele si informatiile prim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Importanta zilelor: Joi, Vineri, Sambata din Saptamana M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a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izionarea secventelor din filmul prop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lizarea unui poster pe tematica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up tinta: 4 elevi din clasa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a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nsibilizarea elevilor referitor la simbolistica Patimilor lui Ii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Semnificatia Sfintelor Sarbatori de Pa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iec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gaseasca informatii si poze despre Sfintele Paste prin intermediul internetulu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utilizeze corect bara cu instrumente de lucru din conturile proprii pe think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 insereze imagini reperzentative de Pa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7:36:32Z</dcterms:created>
  <dc:creator>Scoala Generala Tirnova</dc:creator>
  <dc:description/>
  <dc:language>en-US</dc:language>
  <cp:lastModifiedBy>Scoala Generala Tirnova</cp:lastModifiedBy>
  <dcterms:modified xsi:type="dcterms:W3CDTF">2008-04-15T10:28:20Z</dcterms:modified>
  <cp:revision>6</cp:revision>
  <dc:subject/>
  <dc:title>SFANTA SARBATOARE DE PASTI</dc:title>
</cp:coreProperties>
</file>